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D5E-3199-4EEA-AE8C-4DBB050F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DDD-E3C3-4417-8BD1-A49AF247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1AA-1998-4246-9BB4-708E315C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CAB-754D-4EE2-952E-FB9E191F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807-6801-489D-8472-54458434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21A-F5E7-4F47-94AD-8C29A3D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37D-C07E-43AE-A601-BEB7CB75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8C8-5F7A-49F0-8564-DDE95F9F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512-C98E-4DBC-8EDF-39D25436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FC0-4003-47C5-B486-DAC5F9B8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9A9-95E7-4513-9B4C-77DFD891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F37-A3DF-424F-90A7-7CBFF281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7D9C-6918-4F03-8A14-A890248DF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google.com/imgres?q=french+toast&amp;hl=en&amp;gbv=2&amp;biw=1280&amp;bih=841&amp;tbm=isch&amp;imgrefurl=http://pinchmysalt.com/spiked-egg-nog-french-toast/&amp;tbnid=lTrE6N-M1olZ1M&amp;docid=6dwX78YH37jmjM&amp;ved=0CEEQhRYoAQ&amp;ei=0ot8T-jyLebh0QHPq8joCw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447920"/>
            <a:ext cx="6858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ccff"/>
                </a:solidFill>
                <a:uFillTx/>
                <a:latin typeface="Copperplate Gothic Light"/>
              </a:rPr>
              <a:t>Las Comid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733920"/>
            <a:ext cx="6553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Copperplate Gothic Light"/>
              </a:rPr>
              <a:t>Por: Maddie Gr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pperplate Gothic Light"/>
              </a:rPr>
              <a:t>Para el desayuno,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12193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1578240" cy="2390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4191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Light"/>
              </a:rPr>
              <a:t>Tostada franc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160020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590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2767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000" y="327600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Light"/>
              </a:rPr>
              <a:t>Ensalada de Fru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Light"/>
              </a:rPr>
              <a:t>El 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4724280"/>
            <a:ext cx="2467080" cy="16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Light"/>
              </a:rPr>
              <a:t>El Jugo de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522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Para el almuerzo,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3048120"/>
            <a:ext cx="2762280" cy="333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3705120" cy="2478240"/>
          </a:xfrm>
          <a:prstGeom prst="rect">
            <a:avLst/>
          </a:prstGeom>
          <a:ln w="50760">
            <a:solidFill>
              <a:srgbClr val="000000"/>
            </a:solidFill>
            <a:prstDash val="dash"/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3520" y="4572000"/>
            <a:ext cx="2743200" cy="2057400"/>
          </a:xfrm>
          <a:prstGeom prst="rect">
            <a:avLst/>
          </a:prstGeom>
          <a:ln w="38160">
            <a:solidFill>
              <a:srgbClr val="000000"/>
            </a:solidFill>
            <a:prstDash val="sysDot"/>
            <a:miter/>
          </a:ln>
        </p:spPr>
      </p:pic>
      <p:sp>
        <p:nvSpPr>
          <p:cNvPr id="59" name=""/>
          <p:cNvSpPr/>
          <p:nvPr/>
        </p:nvSpPr>
        <p:spPr>
          <a:xfrm>
            <a:off x="685800" y="38862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4038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Light"/>
              </a:rPr>
              <a:t>Las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47242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Light"/>
              </a:rPr>
              <a:t>La Lim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1295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Una Boc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22860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Para la cena,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2971800" cy="198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3457440" cy="2308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3124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a P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7339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as Alme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895840" cy="1886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4038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Un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267080" y="426708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5880" y="5105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El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15228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Para la merienda,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190600" cy="219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1219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as F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Para el postre,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762280" cy="1785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05320" y="1600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Las Gal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5:22Z</dcterms:created>
  <dc:creator>gravesmad</dc:creator>
  <dc:description/>
  <dc:language>en-US</dc:language>
  <cp:lastModifiedBy>gravesmad</cp:lastModifiedBy>
  <dcterms:modified xsi:type="dcterms:W3CDTF">2012-04-04T18:23:57Z</dcterms:modified>
  <cp:revision>3</cp:revision>
  <dc:subject/>
  <dc:title>Slide 1</dc:title>
</cp:coreProperties>
</file>